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9.png" ContentType="image/png"/>
  <Override PartName="/ppt/media/image33.jpeg" ContentType="image/jpeg"/>
  <Override PartName="/ppt/media/image45.png" ContentType="image/png"/>
  <Override PartName="/ppt/media/image36.jpeg" ContentType="image/jpeg"/>
  <Override PartName="/ppt/media/image37.jpeg" ContentType="image/jpeg"/>
  <Override PartName="/ppt/media/image46.png" ContentType="image/png"/>
  <Override PartName="/ppt/media/image31.jpeg" ContentType="image/jpeg"/>
  <Override PartName="/ppt/media/image53.jpeg" ContentType="image/jpeg"/>
  <Override PartName="/ppt/media/image43.png" ContentType="image/png"/>
  <Override PartName="/ppt/media/image38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30.jpeg" ContentType="image/jpeg"/>
  <Override PartName="/ppt/media/image55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B2E-49B0-431B-BA6E-2B2355B3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913-463C-4E3D-A742-19AA9D66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FC8-CED7-461A-BA80-D5F865F4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E5B-7D3F-4183-99A4-1A1D3125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9C36-66F7-49AB-9257-934C68B4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E8C6-313B-4D11-A2D8-49516367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1DB2-19B4-4471-911D-BD84C1E4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0CED-263D-483E-ACF8-3E1C1780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9656-08CD-4EA8-BC1F-DA14D6E9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E6E3-52A0-4AE0-89DE-EE6DBC5B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B2DD-DB0C-4BB0-AA84-B0A55D64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408-9986-47BC-A5C9-B28C5392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858C-7128-4B8E-8A81-F1CBBEE7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5CF7-E2EB-4874-98F5-A3BF4394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6A55-9E3F-49FF-9A97-1C3D7B51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A78E-1906-42AF-93F4-DDB50C90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F833-97BC-45E9-A771-BE3600AD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2B58-A6BA-4DA9-9BA7-9E20BA5D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E7E67-C3F9-43E7-8FFA-3B449913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75C0-918A-4516-BE7F-622CF219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0D37-27E5-4801-8D61-384CDAFB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4548-02B4-4AF2-9F71-072FA8C0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3D6-5855-4DDC-8739-59324708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5C3E-0DAA-48D1-8535-001BB939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E0C4-A1BD-4AB6-B6B4-6F44B486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9682-29B3-416F-86A5-0933CE7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7D64-DE67-4FE0-AA24-0D8FB4F9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0AD2-9912-47AA-B15E-FC13372D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9537-229B-4C40-8D44-68B6DD2F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B59D8-0935-4FA1-AB12-C361DAC0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DEEE-4C27-472A-A497-1E9CCDB8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9CEED-8287-4576-A3B8-5B83C887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6E3B3-DDFC-4AFF-A415-3F1C21EE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C43-E94F-4B04-8743-688214E5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34565-F3F1-491B-838A-C09A0251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BCFA2-448C-4193-A4A1-B1F5BDC5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1C02-DB07-433B-BF84-6429F001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402A3-A624-4EF2-B3C9-4EF5985D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57C6-1D99-459F-A305-DACF21F7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8BA1-EAD1-46B2-9752-93849DCF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DEED3-9ACD-4EB5-9767-79E33005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65118-5467-42E3-83CF-7129CE05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FE1FA-9DC9-4968-B1A0-AC45024A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5A4-4C97-4C87-8BFD-E1FD3B1B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F57-D58F-4960-ADAE-C139D7CC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C54-0911-4C73-A7E3-191B3162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CB3-8DA9-43BA-986D-9BAF0C0C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E5D-F957-49F5-A1F2-3178F9B5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A5F7-076F-452F-9533-1C7BA97C066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6E53-098B-481C-9B99-A54A2571F19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7A60-105E-4042-A90D-5565D84A78A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2FBF-DB64-499A-9A79-D9914647EBD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"/>
          <p:cNvPicPr/>
          <p:nvPr/>
        </p:nvPicPr>
        <p:blipFill>
          <a:blip r:embed="rId2"/>
          <a:stretch/>
        </p:blipFill>
        <p:spPr>
          <a:xfrm>
            <a:off x="500040" y="1214280"/>
            <a:ext cx="669600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3"/>
          <a:stretch/>
        </p:blipFill>
        <p:spPr>
          <a:xfrm>
            <a:off x="500040" y="2928960"/>
            <a:ext cx="4429080" cy="3571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4"/>
          <a:stretch/>
        </p:blipFill>
        <p:spPr>
          <a:xfrm>
            <a:off x="5214960" y="1000080"/>
            <a:ext cx="36669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1285920" y="428760"/>
            <a:ext cx="642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ГОРИЗОНТАЛЬНАЯ   ЛИНИЯ    В   ОД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82389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0" y="142920"/>
            <a:ext cx="2000160" cy="4286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3429000" y="285840"/>
            <a:ext cx="230508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4"/>
          <a:stretch/>
        </p:blipFill>
        <p:spPr>
          <a:xfrm>
            <a:off x="7000920" y="285840"/>
            <a:ext cx="1933560" cy="4976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5"/>
          <a:stretch/>
        </p:blipFill>
        <p:spPr>
          <a:xfrm>
            <a:off x="5008680" y="2714760"/>
            <a:ext cx="212544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6"/>
          <a:stretch/>
        </p:blipFill>
        <p:spPr>
          <a:xfrm>
            <a:off x="1785960" y="2643120"/>
            <a:ext cx="1989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428760" y="64296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ДИАГОНА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ЛИНИЯ    В    ОД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D:\Света\зрительные иллюзии в одежде\eee.jpg"/>
          <p:cNvPicPr/>
          <p:nvPr/>
        </p:nvPicPr>
        <p:blipFill>
          <a:blip r:embed="rId2"/>
          <a:stretch/>
        </p:blipFill>
        <p:spPr>
          <a:xfrm>
            <a:off x="1643040" y="1989000"/>
            <a:ext cx="5857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D:\Света\зрительные иллюзии в одежде\24.jpg"/>
          <p:cNvPicPr/>
          <p:nvPr/>
        </p:nvPicPr>
        <p:blipFill>
          <a:blip r:embed="rId2"/>
          <a:stretch/>
        </p:blipFill>
        <p:spPr>
          <a:xfrm>
            <a:off x="6429240" y="3000240"/>
            <a:ext cx="2357640" cy="3535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3"/>
          <a:stretch/>
        </p:blipFill>
        <p:spPr>
          <a:xfrm>
            <a:off x="428760" y="214200"/>
            <a:ext cx="2171520" cy="514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D:\Света\зрительные иллюзии в одежде\Polosa1.jpg"/>
          <p:cNvPicPr/>
          <p:nvPr/>
        </p:nvPicPr>
        <p:blipFill>
          <a:blip r:embed="rId4"/>
          <a:stretch/>
        </p:blipFill>
        <p:spPr>
          <a:xfrm>
            <a:off x="2500200" y="2714760"/>
            <a:ext cx="2428920" cy="3795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5"/>
          <a:stretch/>
        </p:blipFill>
        <p:spPr>
          <a:xfrm>
            <a:off x="4786200" y="214200"/>
            <a:ext cx="16765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195264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3"/>
          <a:stretch/>
        </p:blipFill>
        <p:spPr>
          <a:xfrm>
            <a:off x="2500200" y="928800"/>
            <a:ext cx="1962360" cy="5500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4"/>
          <a:stretch/>
        </p:blipFill>
        <p:spPr>
          <a:xfrm>
            <a:off x="4643280" y="357120"/>
            <a:ext cx="2333880" cy="4572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5"/>
          <a:stretch/>
        </p:blipFill>
        <p:spPr>
          <a:xfrm>
            <a:off x="7143840" y="1428840"/>
            <a:ext cx="1666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"/>
          <p:cNvSpPr/>
          <p:nvPr/>
        </p:nvSpPr>
        <p:spPr>
          <a:xfrm>
            <a:off x="398880" y="642960"/>
            <a:ext cx="838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7e"/>
                </a:solidFill>
                <a:latin typeface="Georgia"/>
              </a:rPr>
              <a:t>КАКИМ  ЗРИТЕЛЬНЫМИ  ИЛЛЮЗ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7e"/>
                </a:solidFill>
                <a:latin typeface="Georgia"/>
              </a:rPr>
              <a:t>ДОСТИГАЕТСЯ ЭФФЕКТ  СТРОЙ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571680" y="1928880"/>
            <a:ext cx="2152440" cy="450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>
            <a:off x="3357720" y="1928880"/>
            <a:ext cx="2131920" cy="45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4"/>
          <a:stretch/>
        </p:blipFill>
        <p:spPr>
          <a:xfrm>
            <a:off x="6357960" y="1857240"/>
            <a:ext cx="196848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1857240" y="1143000"/>
            <a:ext cx="6201000" cy="60948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3"/>
          <p:cNvSpPr/>
          <p:nvPr/>
        </p:nvSpPr>
        <p:spPr>
          <a:xfrm>
            <a:off x="1000080" y="235728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наиболее сильный эффект строй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создают  горизонтальные лин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располож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высоко или низко на фигу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857240" y="1143000"/>
            <a:ext cx="6201000" cy="6094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"/>
          <p:cNvSpPr/>
          <p:nvPr/>
        </p:nvSpPr>
        <p:spPr>
          <a:xfrm>
            <a:off x="2071800" y="2428920"/>
            <a:ext cx="542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чем ближ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диагональ к вертика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тем сильне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эффект строй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1857240" y="1143000"/>
            <a:ext cx="6201000" cy="60948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2"/>
          <p:cNvSpPr/>
          <p:nvPr/>
        </p:nvSpPr>
        <p:spPr>
          <a:xfrm>
            <a:off x="2286000" y="24289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удлинить ро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можно при помощ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вертикальных  линий  кр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1214280" y="1143000"/>
            <a:ext cx="7248600" cy="6094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785880" y="2000160"/>
            <a:ext cx="771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для  создани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иллюзии  стройност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промежут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между  вертикальными  ли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  </a:t>
            </a: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должны   бы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как  можно  дальш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друг  от  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1071720" y="1428840"/>
            <a:ext cx="71625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2"/>
          <a:stretch/>
        </p:blipFill>
        <p:spPr>
          <a:xfrm>
            <a:off x="1071720" y="1071720"/>
            <a:ext cx="7248240" cy="60948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2"/>
          <p:cNvSpPr/>
          <p:nvPr/>
        </p:nvSpPr>
        <p:spPr>
          <a:xfrm>
            <a:off x="2000160" y="2357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горизонтальные ли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можно располаг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на проблемных зонах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248600" cy="60948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"/>
          <p:cNvSpPr/>
          <p:nvPr/>
        </p:nvSpPr>
        <p:spPr>
          <a:xfrm>
            <a:off x="1357200" y="2214720"/>
            <a:ext cx="65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вертикальные ли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делают фигуру зрительно  выш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если  они расположе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на линии та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428760" y="571680"/>
            <a:ext cx="8248680" cy="1143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3"/>
          <a:stretch/>
        </p:blipFill>
        <p:spPr>
          <a:xfrm>
            <a:off x="285840" y="1500120"/>
            <a:ext cx="1798560" cy="5148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4"/>
          <a:stretch/>
        </p:blipFill>
        <p:spPr>
          <a:xfrm>
            <a:off x="2786040" y="1785960"/>
            <a:ext cx="2759040" cy="4762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5"/>
          <a:stretch/>
        </p:blipFill>
        <p:spPr>
          <a:xfrm>
            <a:off x="5500800" y="1836720"/>
            <a:ext cx="28098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642960" y="857160"/>
            <a:ext cx="3606840" cy="5191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3"/>
          <a:stretch/>
        </p:blipFill>
        <p:spPr>
          <a:xfrm>
            <a:off x="4533840" y="857160"/>
            <a:ext cx="3732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ЯВЛЕНИЕ    ИРРАДИ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2" descr="D:\Света\зрительные иллюзии в одежде\15.jpg"/>
          <p:cNvPicPr/>
          <p:nvPr/>
        </p:nvPicPr>
        <p:blipFill>
          <a:blip r:embed="rId2"/>
          <a:stretch/>
        </p:blipFill>
        <p:spPr>
          <a:xfrm>
            <a:off x="1143000" y="1928880"/>
            <a:ext cx="6715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D:\Света\зрительные иллюзии в одежде\IMG_1252.jpg"/>
          <p:cNvPicPr/>
          <p:nvPr/>
        </p:nvPicPr>
        <p:blipFill>
          <a:blip r:embed="rId2"/>
          <a:stretch/>
        </p:blipFill>
        <p:spPr>
          <a:xfrm>
            <a:off x="500040" y="1000080"/>
            <a:ext cx="3533760" cy="5286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D:\Света\зрительные иллюзии в одежде\x_c03239d1.jpg"/>
          <p:cNvPicPr/>
          <p:nvPr/>
        </p:nvPicPr>
        <p:blipFill>
          <a:blip r:embed="rId3"/>
          <a:stretch/>
        </p:blipFill>
        <p:spPr>
          <a:xfrm>
            <a:off x="4429080" y="1571760"/>
            <a:ext cx="4283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Georgia"/>
              </a:rPr>
              <a:t>ИЛЛЮЗИЯ    КОНТРАС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Picture 7" descr="D:\Света\зрительные иллюзии в одежде\Копия 071022_st_nevisok1.jpg"/>
          <p:cNvPicPr/>
          <p:nvPr/>
        </p:nvPicPr>
        <p:blipFill>
          <a:blip r:embed="rId2"/>
          <a:stretch/>
        </p:blipFill>
        <p:spPr>
          <a:xfrm>
            <a:off x="1285920" y="1857240"/>
            <a:ext cx="647712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D:\Света\зрительные иллюзии в одежде\меньше.png"/>
          <p:cNvPicPr/>
          <p:nvPr/>
        </p:nvPicPr>
        <p:blipFill>
          <a:blip r:embed="rId2"/>
          <a:stretch/>
        </p:blipFill>
        <p:spPr>
          <a:xfrm>
            <a:off x="100080" y="642960"/>
            <a:ext cx="86202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1340640" y="714240"/>
            <a:ext cx="67550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Georgia"/>
              </a:rPr>
              <a:t>ЗРИТЕЛЬНЫЕ  ИЛЛЮЗИИ –</a:t>
            </a: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eorgia"/>
              </a:rPr>
              <a:t>искажён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Georgia"/>
              </a:rPr>
              <a:t>восприятие  глаз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Georgia"/>
              </a:rPr>
              <a:t>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D:\Света\оптические иллюзии\иллюзии зрительного восприятия\006.jpg"/>
          <p:cNvPicPr/>
          <p:nvPr/>
        </p:nvPicPr>
        <p:blipFill>
          <a:blip r:embed="rId2"/>
          <a:stretch/>
        </p:blipFill>
        <p:spPr>
          <a:xfrm>
            <a:off x="1428840" y="4071960"/>
            <a:ext cx="6261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D:\Света\оптические иллюзии\иллюзии зрительного восприятия\ris2.gif"/>
          <p:cNvPicPr/>
          <p:nvPr/>
        </p:nvPicPr>
        <p:blipFill>
          <a:blip r:embed="rId2"/>
          <a:stretch/>
        </p:blipFill>
        <p:spPr>
          <a:xfrm>
            <a:off x="357120" y="2928960"/>
            <a:ext cx="4500720" cy="8906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571680" y="571680"/>
            <a:ext cx="8072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ОПТИКО – ГЕОМЕТРИЧЕСКАЯ  ИЛЛЮЗ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2060"/>
                </a:solidFill>
                <a:uFillTx/>
                <a:latin typeface="Georgia"/>
              </a:rPr>
              <a:t>МЮЛЛЕРА - ЛАЙ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5357880" y="1714680"/>
            <a:ext cx="319068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ИЛЛЮЗИЯ    ПЕРЕОЦЕНКИ  ВЕРТИКАЛ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Рисунок 6" descr="http://tvorim.e-gloryon.com/userdata/images/pereocenka%20vertikali3.jpg"/>
          <p:cNvPicPr/>
          <p:nvPr/>
        </p:nvPicPr>
        <p:blipFill>
          <a:blip r:embed="rId2"/>
          <a:stretch/>
        </p:blipFill>
        <p:spPr>
          <a:xfrm>
            <a:off x="500040" y="2643120"/>
            <a:ext cx="4786200" cy="221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D:\Света\зрительные иллюзии в одежде\910103.jpg"/>
          <p:cNvPicPr/>
          <p:nvPr/>
        </p:nvPicPr>
        <p:blipFill>
          <a:blip r:embed="rId3"/>
          <a:stretch/>
        </p:blipFill>
        <p:spPr>
          <a:xfrm>
            <a:off x="6072120" y="1857240"/>
            <a:ext cx="22924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D:\Света\зрительные иллюзии в одежде\ттт.jpg"/>
          <p:cNvPicPr/>
          <p:nvPr/>
        </p:nvPicPr>
        <p:blipFill>
          <a:blip r:embed="rId2"/>
          <a:stretch/>
        </p:blipFill>
        <p:spPr>
          <a:xfrm>
            <a:off x="928800" y="785880"/>
            <a:ext cx="725004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3"/>
          <p:cNvSpPr/>
          <p:nvPr/>
        </p:nvSpPr>
        <p:spPr>
          <a:xfrm>
            <a:off x="734400" y="642960"/>
            <a:ext cx="79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ВЕРТИКАЛЬНАЯ  ЛИНИЯ  В  ОД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4500720" y="1357200"/>
            <a:ext cx="2000160" cy="4762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0" y="1285920"/>
            <a:ext cx="4335480" cy="361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4"/>
          <a:stretch/>
        </p:blipFill>
        <p:spPr>
          <a:xfrm>
            <a:off x="6858000" y="1643040"/>
            <a:ext cx="194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D:\Света\зрительные иллюзии в одежде\ооо.jpg"/>
          <p:cNvPicPr/>
          <p:nvPr/>
        </p:nvPicPr>
        <p:blipFill>
          <a:blip r:embed="rId2"/>
          <a:stretch/>
        </p:blipFill>
        <p:spPr>
          <a:xfrm>
            <a:off x="0" y="1071720"/>
            <a:ext cx="3094200" cy="5143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3"/>
          <a:stretch/>
        </p:blipFill>
        <p:spPr>
          <a:xfrm>
            <a:off x="3214800" y="1000080"/>
            <a:ext cx="2619360" cy="3619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4"/>
          <a:stretch/>
        </p:blipFill>
        <p:spPr>
          <a:xfrm>
            <a:off x="6286680" y="1000080"/>
            <a:ext cx="250488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D:\Света\зрительные иллюзии в одежде\юю.jpg"/>
          <p:cNvPicPr/>
          <p:nvPr/>
        </p:nvPicPr>
        <p:blipFill>
          <a:blip r:embed="rId2"/>
          <a:stretch/>
        </p:blipFill>
        <p:spPr>
          <a:xfrm>
            <a:off x="0" y="1214280"/>
            <a:ext cx="3807000" cy="5143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3"/>
          <a:stretch/>
        </p:blipFill>
        <p:spPr>
          <a:xfrm>
            <a:off x="4071960" y="2143080"/>
            <a:ext cx="2286000" cy="4048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4"/>
          <a:stretch/>
        </p:blipFill>
        <p:spPr>
          <a:xfrm>
            <a:off x="6572160" y="714240"/>
            <a:ext cx="22860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2:38:31Z</dcterms:created>
  <dc:creator>СВЕТЛАНА</dc:creator>
  <dc:description/>
  <dc:language>en-US</dc:language>
  <cp:lastModifiedBy>Ольга</cp:lastModifiedBy>
  <dcterms:modified xsi:type="dcterms:W3CDTF">2011-12-16T22:47:45Z</dcterms:modified>
  <cp:revision>46</cp:revision>
  <dc:subject/>
  <dc:title>Слайд 1</dc:title>
</cp:coreProperties>
</file>